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14.jpeg" ContentType="image/jpeg"/>
  <Override PartName="/ppt/media/image5.gif" ContentType="image/gif"/>
  <Override PartName="/ppt/media/image7.jpeg" ContentType="image/jpe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D9FE-0224-4054-8278-0102B15CB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3860-4840-4893-97C4-9A240F73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841D-667A-41A7-BC73-7B42C802D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7CAB-F08B-4686-AAF8-89993CBC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A08B-BCF8-40F8-99CA-E92169C6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C91F-A707-44FE-8CB6-A5DA322A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33E6-FE1C-44AE-A9EC-217C3BB4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B9BF-ADE0-4267-91B8-145FF61E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23E0-EBAE-4BAC-B312-615BB8D2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D829-DB1C-40E0-A972-922192A0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696A-576D-4F43-8767-E93A92CD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77F1-B597-4691-9C3D-42E6CBCE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CB8B-E943-478D-9275-469EB5D1D404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380360" y="649116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２００６．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>
            <a:hlinkClick r:id="rId3" action="ppaction://hlinksldjump"/>
          </p:cNvPr>
          <p:cNvSpPr/>
          <p:nvPr/>
        </p:nvSpPr>
        <p:spPr>
          <a:xfrm>
            <a:off x="0" y="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读书</a:t>
            </a: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－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32000" y="2204640"/>
            <a:ext cx="640080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Arial"/>
              </a:rPr>
              <a:t>７０２班班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16000" y="333360"/>
            <a:ext cx="688176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新細明體"/>
              </a:rPr>
              <a:t>读书－学习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新細明體"/>
              <a:ea typeface="新細明體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419640" y="2565360"/>
            <a:ext cx="2400120" cy="1800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971640" y="5877000"/>
            <a:ext cx="7315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新細明體"/>
              </a:rPr>
              <a:t>欢迎７０１的学友来我班听课！！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3203640" y="501336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58920" y="465300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声明：本课件所用的图片无任何营利目的，别告我侵犯你的肖像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659640" y="2492280"/>
            <a:ext cx="1692360" cy="1592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755640" y="2637000"/>
            <a:ext cx="2016000" cy="1487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3995640" y="1197000"/>
            <a:ext cx="12956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卡通漫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800360" cy="1351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95280" y="1341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看我像不像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奥特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206064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１．唐老鸭有一个富的流淌又极端吝啬的叔叔，他是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35280" y="2349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史高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2781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２．柯南的全名是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2781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江户川柯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3284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３．＜全职猎人＞里的库用的是什么武器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35640" y="3284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钓鱼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371628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４．＜钢之炼金术士＞里的机器人跟主人公是什么关系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84360" y="400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他的弟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00000" y="45086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５．阿童木的创作者是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24360" y="4508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琢于治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7238880" y="1143000"/>
            <a:ext cx="12956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历史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2513160" cy="1884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24000" y="1844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中国历史，我最清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25909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1.</a:t>
            </a: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宋体"/>
              </a:rPr>
              <a:t>司马迁受过什么刑罚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25909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cc"/>
                </a:solidFill>
                <a:latin typeface="Arial"/>
                <a:ea typeface="宋体"/>
              </a:rPr>
              <a:t>宫刑，也叫腐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3124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宋体"/>
              </a:rPr>
              <a:t>《孙子兵法》的作者的原名是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14800" y="3124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cc"/>
                </a:solidFill>
                <a:latin typeface="Arial"/>
                <a:ea typeface="宋体"/>
              </a:rPr>
              <a:t>孙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35053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3.</a:t>
            </a: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宋体"/>
              </a:rPr>
              <a:t>“</a:t>
            </a: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宋体"/>
              </a:rPr>
              <a:t>题扇桥”的名字有何典故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33920" y="350532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cc"/>
                </a:solidFill>
                <a:latin typeface="Arial"/>
                <a:ea typeface="宋体"/>
              </a:rPr>
              <a:t>王羲之曾在此桥上为一个老太太题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39625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4.</a:t>
            </a: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宋体"/>
              </a:rPr>
              <a:t>从什么时候开始，皇帝开始用年号记年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29200" y="39625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cc"/>
                </a:solidFill>
                <a:latin typeface="Arial"/>
                <a:ea typeface="宋体"/>
              </a:rPr>
              <a:t>西汉汉武帝开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44197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5.</a:t>
            </a: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宋体"/>
              </a:rPr>
              <a:t>秦朝时管理一亭范围内官员叫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cc"/>
                </a:solidFill>
                <a:latin typeface="Arial"/>
                <a:ea typeface="宋体"/>
              </a:rPr>
              <a:t>亭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6553080" y="1447920"/>
            <a:ext cx="1295640" cy="10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116000" y="333360"/>
            <a:ext cx="69055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新細明體"/>
              </a:rPr>
              <a:t>下面由同学为我们朗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新細明體"/>
              <a:ea typeface="新細明體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213372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00"/>
                </a:solidFill>
                <a:latin typeface="Arial"/>
                <a:ea typeface="宋体"/>
              </a:rPr>
              <a:t>《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发现</a:t>
            </a:r>
            <a:r>
              <a:rPr b="1" lang="zh-CN" sz="6600" spc="-1" strike="noStrike">
                <a:solidFill>
                  <a:srgbClr val="ff9900"/>
                </a:solidFill>
                <a:latin typeface="Arial"/>
                <a:ea typeface="宋体"/>
              </a:rPr>
              <a:t>》</a:t>
            </a:r>
            <a:r>
              <a:rPr b="1" lang="zh-CN" sz="6600" spc="-1" strike="noStrike">
                <a:solidFill>
                  <a:srgbClr val="ff6600"/>
                </a:solidFill>
                <a:latin typeface="Arial"/>
                <a:ea typeface="宋体"/>
              </a:rPr>
              <a:t>闻一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505320" y="3962520"/>
            <a:ext cx="1295280" cy="10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828800"/>
            <a:ext cx="8539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华文细黑"/>
              </a:rPr>
              <a:t>活动结束了！也相信大家在本节课中收获很多！</a:t>
            </a: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华文细黑"/>
              </a:rPr>
              <a:t>886</a:t>
            </a:r>
            <a:r>
              <a:rPr b="1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华文细黑"/>
              </a:rPr>
              <a:t>！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华文细黑"/>
              <a:ea typeface="华文细黑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3809880" y="685800"/>
            <a:ext cx="1295640" cy="10256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60200" y="11823840"/>
            <a:ext cx="6956640" cy="360"/>
          </a:xfrm>
          <a:prstGeom prst="rect">
            <a:avLst/>
          </a:prstGeom>
          <a:solidFill>
            <a:srgbClr val="434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0200" y="14028840"/>
            <a:ext cx="9144000" cy="360"/>
          </a:xfrm>
          <a:prstGeom prst="rect">
            <a:avLst/>
          </a:prstGeom>
          <a:solidFill>
            <a:srgbClr val="434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60200" y="11823840"/>
            <a:ext cx="360" cy="360"/>
            <a:chOff x="160200" y="11823840"/>
            <a:chExt cx="360" cy="360"/>
          </a:xfrm>
        </p:grpSpPr>
        <p:sp>
          <p:nvSpPr>
            <p:cNvPr id="181" name=""/>
            <p:cNvSpPr/>
            <p:nvPr/>
          </p:nvSpPr>
          <p:spPr>
            <a:xfrm>
              <a:off x="160200" y="11823840"/>
              <a:ext cx="360" cy="360"/>
            </a:xfrm>
            <a:prstGeom prst="rect">
              <a:avLst/>
            </a:prstGeom>
            <a:solidFill>
              <a:srgbClr val="434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60200" y="11823840"/>
              <a:ext cx="360" cy="360"/>
            </a:xfrm>
            <a:prstGeom prst="rect">
              <a:avLst/>
            </a:prstGeom>
            <a:solidFill>
              <a:srgbClr val="434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0" y="76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对面的同学看过来！看过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8360" y="1700280"/>
            <a:ext cx="194328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－名人的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4149720"/>
            <a:ext cx="187164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－读书测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11280" y="2708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848720" y="1447920"/>
            <a:ext cx="1295280" cy="10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556000" y="260280"/>
            <a:ext cx="362268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新細明體"/>
              </a:rPr>
              <a:t>名人的话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新細明體"/>
              <a:ea typeface="新細明體"/>
            </a:endParaRPr>
          </a:p>
        </p:txBody>
      </p:sp>
      <p:sp>
        <p:nvSpPr>
          <p:cNvPr id="59" name=""/>
          <p:cNvSpPr/>
          <p:nvPr/>
        </p:nvSpPr>
        <p:spPr>
          <a:xfrm>
            <a:off x="1258920" y="1341360"/>
            <a:ext cx="61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关于读书．学习的名人名言有很多，大家能说出哪些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104240" y="0"/>
            <a:ext cx="2039760" cy="1530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308720" y="1052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出来表现一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宋体"/>
                <a:ea typeface="宋体"/>
              </a:rPr>
              <a:t>在所阅读的书本中找出可以把自己引到深处的东西，把其它一切统统抛掉，就是抛掉使头脑负担过重和会把自己诱离要点的一切．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zh-CN" sz="1800" spc="-1" strike="noStrike">
                <a:solidFill>
                  <a:srgbClr val="ffff00"/>
                </a:solidFill>
                <a:latin typeface="宋体"/>
                <a:ea typeface="宋体"/>
              </a:rPr>
              <a:t>——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zh-CN" sz="1800" spc="-1" strike="noStrike">
                <a:solidFill>
                  <a:srgbClr val="ffff00"/>
                </a:solidFill>
                <a:latin typeface="宋体"/>
                <a:ea typeface="宋体"/>
              </a:rPr>
              <a:t>爱因斯坦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66688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读过一本好书，象交了一个益友。 —— 臧克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3505320"/>
            <a:ext cx="419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32767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阅读一本不适合自己阅读的书，比不阅读还要坏。我们必须会这样一种本领，选择最有价值、最 适合自己所需要的读物。 —— 别林斯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4038480"/>
            <a:ext cx="70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生活里没有书籍，就好象没有阳光；智慧里没有书籍，就好象鸟儿没有翅膀。 —— 莎士比亚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48769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书籍是青年人不可分离的生命伴侣和导师。 —— 高尔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162920" y="4876920"/>
            <a:ext cx="1295280" cy="10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4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4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340000" y="333360"/>
            <a:ext cx="446400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新細明體"/>
              </a:rPr>
              <a:t>读书测试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新細明體"/>
              <a:ea typeface="新細明體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2184480" cy="1638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70028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看看你们读书读得怎么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47640" y="213372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每组选一代表回答，每组５题，每题１０分，大家加油啊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523880" y="2708280"/>
          <a:ext cx="6096240" cy="27525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国外名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中国名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课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科幻小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魔幻小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卡通漫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历史故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315200" y="838080"/>
            <a:ext cx="129528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国外名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2016000" cy="1511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95280" y="148428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这我最了解（画外音：揍你个崇洋媚外的！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213372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１．＜茶花女＞的作者的父亲是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00720" y="21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大仲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263700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２．保尔．柯察金的初恋情人是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2637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冬妮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314172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３．＜钢铁是怎样炼成的＞的作者是哪国的哪个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0360" y="3141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苏联的奥斯洛夫斯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37162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４．＜童年＞中的阿寥沙的原型是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88000" y="37162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作者本人，高尔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429264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５．莫泊桑文学创作的启蒙导师是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88000" y="4292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福楼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7010280" y="990720"/>
            <a:ext cx="1295640" cy="10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中国名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2585880" cy="19400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4000" y="1844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是炎黄子孙就全答出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256536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ff66"/>
                </a:solidFill>
                <a:latin typeface="Arial"/>
              </a:rPr>
              <a:t>１．＜封神演义＞中的哼哈二将是哪两个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19640" y="256536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郑伦，陈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30686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ff66"/>
                </a:solidFill>
                <a:latin typeface="Arial"/>
              </a:rPr>
              <a:t>２．＜水浒传＞中的神火将军是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3068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魏定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35733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ff66"/>
                </a:solidFill>
                <a:latin typeface="Arial"/>
              </a:rPr>
              <a:t>３．“过五关斩六将”斩的第一将是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88000" y="3573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孔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407664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ff66"/>
                </a:solidFill>
                <a:latin typeface="Arial"/>
              </a:rPr>
              <a:t>４．托塔天王李靖的三个儿子是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3280" y="4076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金吒，木吒，哪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458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ff66"/>
                </a:solidFill>
                <a:latin typeface="Arial"/>
              </a:rPr>
              <a:t>５．姜子牙的坐骑是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92360" y="45813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四不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315200" y="1143000"/>
            <a:ext cx="129528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2297160" cy="1722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4000" y="1773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看你语文课上的怎么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243828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1.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  <a:ea typeface="宋体"/>
              </a:rPr>
              <a:t>木兰姓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2421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299736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  <a:ea typeface="宋体"/>
              </a:rPr>
              <a:t>都德在写以普法战争为背景的两篇小说的时候，世界上有没有德国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3284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没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58920" y="378936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3.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  <a:ea typeface="宋体"/>
              </a:rPr>
              <a:t>《孙权劝学》原文出自哪里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3280" y="378936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《三国志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58920" y="429264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4.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  <a:ea typeface="宋体"/>
              </a:rPr>
              <a:t>闻一多发表过一组爱国诗集，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08720" y="429264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《七子之歌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58920" y="479736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5.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  <a:ea typeface="宋体"/>
              </a:rPr>
              <a:t>《黄河大合唱》最后一部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19640" y="479736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《怒吼吧！黄河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553080" y="1219320"/>
            <a:ext cx="1295640" cy="10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1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科幻小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2512800" cy="1884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5280" y="1844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许多学科都和数学有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" y="24922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１．＜割掉鼻子的大象＞里的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宋体"/>
              </a:rPr>
              <a:t>大象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其实是什么动物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72200" y="25146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29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２．根据＜外星人报到＞的描述，火星人一得抑郁症就会怎样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1280" y="3213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四分五裂，但不会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26920" y="371628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３．＜外星人＞中的外星人是用什么方法与他自己的星球取得联系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95640" y="400536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用字母拼读机改装成的无线电通讯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26920" y="4508640"/>
            <a:ext cx="44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４．＜星球大战＞中帝国的黑爵士是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19640" y="4508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达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5013360"/>
            <a:ext cx="62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５．＜飞近冥王星的人＞中的主人公为什么跟他的儿子一样大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19280" y="5373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他被冰冻的几十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995640" y="1197000"/>
            <a:ext cx="12956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魔幻小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2657520" cy="19940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5280" y="19162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以龙的名义，答出这些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270828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１．＜哈里．波特＞里最好的飞行扫帚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2708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火箭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3213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２．＜幕天席地＞里地下城首领是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92720" y="3213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死神戈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371628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３．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宋体"/>
              </a:rPr>
              <a:t>＜幕天席地＞里海魔王是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59280" y="3716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希特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414972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４．希腊神话里造人偷火的是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88000" y="4149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普罗米修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465300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５．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宋体"/>
              </a:rPr>
              <a:t>希腊神话里掌管商业旅行的是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76720" y="465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赫尔墨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995640" y="1197000"/>
            <a:ext cx="12956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11:55:06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16:45Z</dcterms:modified>
  <cp:revision>50</cp:revision>
  <dc:subject>主题班会课件(分28大类): http://shop62905894.taobao.com</dc:subject>
  <dc:title>主题班会课件(分28大类): http://shop62905894.taobao.com</dc:title>
</cp:coreProperties>
</file>